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  <p:sldId id="276" r:id="rId56"/>
    <p:sldId id="277" r:id="rId57"/>
    <p:sldId id="278" r:id="rId58"/>
    <p:sldId id="279" r:id="rId59"/>
    <p:sldId id="28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slide" Target="slides/slide21.xml"/><Relationship Id="rId57" Type="http://schemas.openxmlformats.org/officeDocument/2006/relationships/slide" Target="slides/slide22.xml"/><Relationship Id="rId58" Type="http://schemas.openxmlformats.org/officeDocument/2006/relationships/slide" Target="slides/slide23.xml"/><Relationship Id="rId59" Type="http://schemas.openxmlformats.org/officeDocument/2006/relationships/slide" Target="slides/slide24.xml"/><Relationship Id="rId60" Type="http://schemas.openxmlformats.org/officeDocument/2006/relationships/slide" Target="slides/slide2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F253-E3A0-4F57-9E25-823641703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3344-1FEB-4C06-A57A-35817019C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E262-A52F-4793-99FF-216CFBD3C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967C-CB0B-49CC-A244-DE362F21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rite Check fe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297E-81E8-44C4-8C72-B76E58A48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 Enter Bills featu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701F-7528-4E55-A9BB-93AEE44D8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Unpaid Bills Detail re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37B2-5FAF-4388-8ADA-96A75DAF0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 Pay Bills func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203B-7048-44C6-8090-CBF3758E3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he Paying bills op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CFAE-653E-48B0-A983-FA4D7900E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Printer Setup fun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5620-80A5-4FD1-8116-7769E58C5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 Printing Chec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CDF7-B721-47F4-A972-DB7E85DD3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Voiding che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D56E-7DA7-4FEA-89A9-CD64C2727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creating Vendor cred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683F-D46C-427C-96DF-7CB6B02B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C28E-160B-4897-9F60-B36BE0ED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pplying vendor credits to a b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3511-31A5-4630-B647-8A5DE976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 Credit Card charges recor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B4C6-8078-4F21-BE74-DB87F7884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D1CA-4F7F-4E73-A67E-E504919B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/R re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05BF-E9BF-49D8-ABF2-0BA07CE05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E717-50DB-4A1C-BFD9-031F6F0EA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3F0A-32B5-46E3-8C18-940B3D98B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BA8B-09F5-4190-B193-959302712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F5AF-A806-4AE5-86D6-FE6B3EE7E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7442-3675-4783-8211-DCEEDFEB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 setting up a Vendo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6CF0-8103-4F2B-B4A7-22B28D60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activating class tracking and Profit and Loss by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6E5-204F-4E6A-A7E2-85789CE0C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job costs tracking and Profit and Loss by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BBD7-76E3-4DE4-A55C-7BAD77BD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B5C5-819E-466A-A785-70DFA552E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2893-6FDC-48BA-B186-AD581AA5D78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2543-1E0F-4D0B-8186-2FED74AB787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534F-1487-47FF-9DEF-1646C7CCA3A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D697-D414-4C59-AD73-DEAC9AC8CFE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9E2F-3E12-4BD4-8ED7-366313728AD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AF30-EEAF-4BF8-90F2-A15AA684899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FCEB-F0E0-462C-AC1D-534146A39DF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AD8B-372A-435D-B7FE-1038B6E1AD8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E343-4DC9-4074-82D3-154249C33E6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2B67-7608-4C4B-9206-97888BCA47A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38FE-BB8C-4C44-ABBB-C7D58F9C4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5111-6AC3-4FF6-BD18-34B591B68A2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77A1-5187-4F71-8A6B-0A191BB9D1D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583E-A51F-478A-82BD-315ABC18F6A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0177-C832-4DEB-8A7B-B7384BE06F9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E194-9FDF-4A33-AF3B-5BF18885924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72325-3016-4E60-9472-20AC3FF4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1291C-2E69-4DF1-AE3D-0A4F210E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AE6EB-6C38-47DB-98C3-37FB9B37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237A5-5372-4ACE-AEEC-B6C394AC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8A583-F1D3-4D7D-A0B9-D6FECF38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F135-6D4D-4312-A40E-3CF4C0C8D7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6F001-0545-46EE-BF47-482E89B0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55613-A37B-4052-88C5-5EB257FA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F8443-7985-4C75-9703-4B778568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93F43-D3FF-4225-A013-15175BDF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833CE-45C0-4F72-9C1E-48513A95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06520-FF23-49E4-B1E7-448931E3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7770D-6FC3-48D5-B1FD-225F2E86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CD772-D1A0-4FDC-BB26-C06E4C00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8E6E1-5DEC-4F89-AD3B-A72AC363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C984C-8E81-4A68-B448-3AA532E3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BF76B-EE93-4EC3-A97D-2ACF59E2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03B0F-782D-413D-AA57-3D8867FD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61BEB-9636-434E-8EEF-DA101DA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03125-3C5D-42A4-BC6C-8A9773E0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D8978-6D10-4DC1-A8A9-3A507488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ADB6D-4859-4F3C-9E1F-402E7974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630E0F-8B80-478B-8911-F946BC03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FF30C-8F83-4641-89AF-AE78F045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4B830-6029-4F88-B624-BAB5D661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F09E1-BC7B-4FF3-885D-1AB90BAD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1BD11-42D3-4606-BA53-5D1E9AD6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2E13D-E83B-4F8B-9E77-59D355A8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360F-32E6-491C-88A6-7373F3EC2E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EA420-1088-4A31-A99E-BA7D19A5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2001D-ACF7-4C62-970C-6BBF97A3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7777E-36A5-4075-9CDB-B7FAC926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618A4-17EE-41BC-9B2A-4B8E42FA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FBABB-2DB6-4017-AC5F-6B9B937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45319-7937-49AD-8CDC-D8F6042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E8370-88CD-415D-9D77-FE979DF9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36485-58A3-4331-BD2F-E9EF1CD7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53D28-DE0E-4390-A4AD-E9B73B32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ACB90-9DB0-46C5-8EE3-2F296E54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A94D-B41C-49E7-A19C-F3C5087C80C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8E3F7-59A4-49BC-9041-4DE4BD7B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60983-9824-4651-9AA8-7CD9D12D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F3D00-27FB-4765-9B27-21E54306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E6A9A-863C-4DD5-A4B2-43D37E53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D855E-4255-46E2-9D9E-EB3010FF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A97AE-5BD0-4D48-941B-92D8BC30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6798F-25E9-439E-BC33-9D2AB92C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D3B3F-7836-4F7A-A2A9-7F61CA2B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15C57-0774-47D0-B03E-F8086CEE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61F7F-70B9-4C44-92A9-5805E219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68D0-182B-484C-B8F8-1E4C50D741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FA1A4-F5EC-47EC-BD1A-3C9614BD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FDE10-3BB7-485C-A10D-7A781FA7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3C6B9-2D62-4F3C-92C0-4D632694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D6FBD-B79D-49F2-9F2B-830ED9DC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23B7D-D0FC-4D53-B2E0-94534429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861DD-1A02-4F16-B61B-16957811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A70E6-0B4A-47D1-9D5D-70037686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592CD-58DD-45FA-AFBC-7005BA1D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BAC58-4434-4470-8EF2-DE317ADD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4100D-3088-4413-A4BC-27D29CD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0D47-6134-48A9-886B-2CBFB79DAD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A6B5B-6555-4FBC-A746-93D12DB3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2A2A4-318D-4B98-AF1C-B8519CB5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956B8-49B1-4A73-870B-3A6B22A3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0F401-FAE7-4317-8618-FF01124A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57F4A-009B-433B-829A-703FD4D8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00A14-10BB-47DA-B7CA-85BC7956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AFBE7-985F-4D57-A0B8-0E02285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CA436-0B81-4363-BEC4-1C208CF3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E6BFF-7A60-4137-B89E-9749DEF4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3E6F5-17DD-415B-BDA5-0830DCF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9D04-FE44-468D-B2A8-1AAD47B0DBC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7D4D1-7D9E-481C-8FCF-B1F87E8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1F04E-2AC5-455A-94AF-8509E930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43C4E-35D1-4082-8C29-1D30B835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D1A55-B8F9-4309-A067-A3CF16B9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178B3-8882-481A-AA61-1CD64ECA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B557-04FD-49B5-A293-1C945C880A7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1811-2BBD-4A13-BFDD-CCD6854726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7329-FAB0-46C3-8F5C-1D6FC16BB5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4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FFE0-D7FE-41D1-8E3B-B217892177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3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FB43-0E05-42E9-969A-045C84CFD5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F37E-49E9-4943-AAA1-29DD34A249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FD48-A8AB-4D68-8CA5-EB96691D1F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F5F3-614F-4168-8620-84712EE347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265A-F418-4BF1-89F4-70BC46A71B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Rectangle 7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6" name=""/>
          <p:cNvSpPr txBox="1"/>
          <p:nvPr/>
        </p:nvSpPr>
        <p:spPr>
          <a:xfrm>
            <a:off x="457200" y="1676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er the transaction and pres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apply your purchase to more than one account click the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plit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utton at the bottom left of the regis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17" name="Picture 4" descr="C:\Users\DPEMBR~1\AppData\Local\Temp\SNAGHTML1f644eef.PNG"/>
          <p:cNvPicPr/>
          <p:nvPr/>
        </p:nvPicPr>
        <p:blipFill>
          <a:blip r:embed="rId2"/>
          <a:stretch/>
        </p:blipFill>
        <p:spPr>
          <a:xfrm>
            <a:off x="662040" y="3124080"/>
            <a:ext cx="7819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ank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nu and then selec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rite Chec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Write Checks window to record your expense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f you’re tracking job costs or classes and are not using the Accounts Pay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f you use Items to track purchases and you are not using the Accounts Pay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1" name=""/>
          <p:cNvSpPr txBox="1"/>
          <p:nvPr/>
        </p:nvSpPr>
        <p:spPr>
          <a:xfrm>
            <a:off x="456840" y="1676160"/>
            <a:ext cx="3352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ill tracks the amount owed and the details of purchase in Accounts Payabl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ust pay it using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y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ill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ndow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22" name="Picture 4" descr="C:\Users\DPEMBR~1\AppData\Local\Temp\SNAGHTML1b49cf5e.PNG"/>
          <p:cNvPicPr/>
          <p:nvPr/>
        </p:nvPicPr>
        <p:blipFill>
          <a:blip r:embed="rId2"/>
          <a:stretch/>
        </p:blipFill>
        <p:spPr>
          <a:xfrm>
            <a:off x="3657600" y="1952640"/>
            <a:ext cx="53244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4" name=""/>
          <p:cNvSpPr txBox="1"/>
          <p:nvPr/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view a list of your unpaid bills, use the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Unpaid Bills Deta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re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25" name="Picture 4" descr="C:\Users\DPEMBR~1\AppData\Local\Temp\SNAGHTML1b4d9194.PNG"/>
          <p:cNvPicPr/>
          <p:nvPr/>
        </p:nvPicPr>
        <p:blipFill>
          <a:blip r:embed="rId2"/>
          <a:stretch/>
        </p:blipFill>
        <p:spPr>
          <a:xfrm>
            <a:off x="1805040" y="2743200"/>
            <a:ext cx="55339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27" name=""/>
          <p:cNvSpPr txBox="1"/>
          <p:nvPr/>
        </p:nvSpPr>
        <p:spPr>
          <a:xfrm>
            <a:off x="457200" y="16765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lls are tracked in Accounts Pay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you pay your bills using Pay Bills function, the balance in Accounts Payable is reduc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use Pay Bills fun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endor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menu and then select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ay Bil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Picture 12" descr="C:\Users\DPEMBR~1\AppData\Local\Temp\SNAGHTML1f6d9f01.PNG"/>
          <p:cNvPicPr/>
          <p:nvPr/>
        </p:nvPicPr>
        <p:blipFill>
          <a:blip r:embed="rId1"/>
          <a:stretch/>
        </p:blipFill>
        <p:spPr>
          <a:xfrm>
            <a:off x="2367000" y="1852560"/>
            <a:ext cx="6041880" cy="4319640"/>
          </a:xfrm>
          <a:prstGeom prst="rect">
            <a:avLst/>
          </a:prstGeom>
          <a:ln w="0">
            <a:noFill/>
          </a:ln>
        </p:spPr>
      </p:pic>
      <p:pic>
        <p:nvPicPr>
          <p:cNvPr id="1529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30" name="Text Box 6"/>
          <p:cNvSpPr/>
          <p:nvPr/>
        </p:nvSpPr>
        <p:spPr>
          <a:xfrm>
            <a:off x="380880" y="15238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ow 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9"/>
          <p:cNvSpPr/>
          <p:nvPr/>
        </p:nvSpPr>
        <p:spPr>
          <a:xfrm>
            <a:off x="152280" y="2743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counts &amp;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10"/>
          <p:cNvSpPr/>
          <p:nvPr/>
        </p:nvSpPr>
        <p:spPr>
          <a:xfrm>
            <a:off x="228600" y="470844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yment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11"/>
          <p:cNvSpPr/>
          <p:nvPr/>
        </p:nvSpPr>
        <p:spPr>
          <a:xfrm>
            <a:off x="8077320" y="25750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t to 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Line 12"/>
          <p:cNvSpPr/>
          <p:nvPr/>
        </p:nvSpPr>
        <p:spPr>
          <a:xfrm>
            <a:off x="1219320" y="1905120"/>
            <a:ext cx="5331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Line 13"/>
          <p:cNvSpPr/>
          <p:nvPr/>
        </p:nvSpPr>
        <p:spPr>
          <a:xfrm flipH="1">
            <a:off x="7962840" y="3200400"/>
            <a:ext cx="4190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Line 14"/>
          <p:cNvSpPr/>
          <p:nvPr/>
        </p:nvSpPr>
        <p:spPr>
          <a:xfrm>
            <a:off x="1447920" y="3429000"/>
            <a:ext cx="1981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Line 15"/>
          <p:cNvSpPr/>
          <p:nvPr/>
        </p:nvSpPr>
        <p:spPr>
          <a:xfrm>
            <a:off x="1600200" y="4952880"/>
            <a:ext cx="22860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16"/>
          <p:cNvSpPr/>
          <p:nvPr/>
        </p:nvSpPr>
        <p:spPr>
          <a:xfrm>
            <a:off x="3505320" y="4114800"/>
            <a:ext cx="48006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40" name=""/>
          <p:cNvSpPr txBox="1"/>
          <p:nvPr/>
        </p:nvSpPr>
        <p:spPr>
          <a:xfrm>
            <a:off x="456840" y="16765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ect the type of printer and checks you h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ucher checks are most comm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der preprinted QuickBooks-compatible chec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41" name="Picture 4" descr="C:\Users\DPEMBR~1\AppData\Local\Temp\SNAGHTML1b58bd45.PNG"/>
          <p:cNvPicPr/>
          <p:nvPr/>
        </p:nvPicPr>
        <p:blipFill>
          <a:blip r:embed="rId2"/>
          <a:stretch/>
        </p:blipFill>
        <p:spPr>
          <a:xfrm>
            <a:off x="4129200" y="1523880"/>
            <a:ext cx="467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print checks either individually or all together in a bat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ify printing with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int Checks - Confirma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nd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44" name="Picture 4" descr=""/>
          <p:cNvPicPr/>
          <p:nvPr/>
        </p:nvPicPr>
        <p:blipFill>
          <a:blip r:embed="rId2"/>
          <a:stretch/>
        </p:blipFill>
        <p:spPr>
          <a:xfrm>
            <a:off x="1271520" y="3657600"/>
            <a:ext cx="6600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tains a record of check and prevents gaps in check number sequ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void a chec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check to be voided in Checking account regis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di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menu and then select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oid Chec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anges the amount to zero, enters “VOID” in the memo field, and marks the check clea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7" name="Rectangle 4"/>
          <p:cNvSpPr/>
          <p:nvPr/>
        </p:nvSpPr>
        <p:spPr>
          <a:xfrm>
            <a:off x="8231400" y="5791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ndor credits are recorded in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Enter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Bill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window using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redi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radio butt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Discount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indow can also be used to record vendor credits, but has several disadvantag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ence numbers or mem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ocation of the credit to multiple accoun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ocation to customers or jobs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use of Item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pply the credit to one of your unpaid bills for the vend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vendors in the Vendor li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rstand how to use classes in QuickBoo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QuickBooks for job cos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expense transactions in several different wa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age Accounts Payable transa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nt check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endor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menu and then selec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ay Bil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ify the Payment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ccount, the Payment Method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d the Payment Da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in the checkmark (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√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olumn to the far left of the bill and then click the Set Credits butt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 the Discounts and Credits window, select the credits to be applied to the bi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you want to apply the credit without paying the bill, reduce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mt. To Pay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olumn to ze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Pay &amp; Close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pay the bill using the vendor credi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575560" cy="123012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a separate credit card account in QuickBooks for each car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each charge individually using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nter Credit Card Charg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ndo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pay the credit card bill, us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rite Chec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d code the check to the credit card account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’t use the Write Checks feature for paying sales tax because the payment won’t affect the Sales Tax It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56" name="Picture 4" descr="C:\Users\DPEMBR~1\AppData\Local\Temp\SNAGHTML1f870e86.PNG"/>
          <p:cNvPicPr/>
          <p:nvPr/>
        </p:nvPicPr>
        <p:blipFill>
          <a:blip r:embed="rId2"/>
          <a:stretch/>
        </p:blipFill>
        <p:spPr>
          <a:xfrm>
            <a:off x="1512720" y="2971800"/>
            <a:ext cx="6118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 txBox="1"/>
          <p:nvPr/>
        </p:nvSpPr>
        <p:spPr>
          <a:xfrm>
            <a:off x="457200" y="18284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ndor Balance Detail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ows the detail of each Bill and Bill Payment to each vend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transactions that “go through” Accounts Payabl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nsaction List by Vendor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ows all transactions associated with vend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ven if the transactions did not “go through” Accounts Payable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vendors in the Vendor li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rstand how to use classes in QuickBoo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QuickBooks for job cos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expense transactions in several different wa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age Accounts Payable transa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nt check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56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oid Chec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ck Loans using the QuickBooks Loan Manag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and apply vendor cred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andle deposits and refunds from Vend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ck petty cash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ck credit card charges and payme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reports about vendor transa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oid Chec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and apply vendor cred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ck credit card charges and pay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 sales tax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 reports about vendor transa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sh Vendo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rite check to appropriate expense accou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n’t use Accounts Payable accoun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 Vendo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ck bills and bill payment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e Accounts Payable accoun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4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5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6"/>
          <p:cNvSpPr/>
          <p:nvPr/>
        </p:nvSpPr>
        <p:spPr>
          <a:xfrm>
            <a:off x="1052640" y="1911240"/>
            <a:ext cx="93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7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65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70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74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77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Rectangle 82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86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89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298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303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307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310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315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319"/>
          <p:cNvSpPr/>
          <p:nvPr/>
        </p:nvSpPr>
        <p:spPr>
          <a:xfrm>
            <a:off x="998640" y="93816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322"/>
          <p:cNvSpPr/>
          <p:nvPr/>
        </p:nvSpPr>
        <p:spPr>
          <a:xfrm>
            <a:off x="998640" y="93816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515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520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Rectangle 524"/>
          <p:cNvSpPr/>
          <p:nvPr/>
        </p:nvSpPr>
        <p:spPr>
          <a:xfrm>
            <a:off x="1052640" y="1911240"/>
            <a:ext cx="93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Rectangle 527"/>
          <p:cNvSpPr/>
          <p:nvPr/>
        </p:nvSpPr>
        <p:spPr>
          <a:xfrm>
            <a:off x="1052640" y="191124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0" name="Rectangle 65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664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7244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 txBox="1"/>
          <p:nvPr/>
        </p:nvSpPr>
        <p:spPr>
          <a:xfrm>
            <a:off x="456840" y="167652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ndors include everyone from whom you purchase products or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04" name="Picture 4" descr="C:\Users\DPEMBR~1\AppData\Local\Temp\SNAGHTML732231.PNG"/>
          <p:cNvPicPr/>
          <p:nvPr/>
        </p:nvPicPr>
        <p:blipFill>
          <a:blip r:embed="rId2"/>
          <a:stretch/>
        </p:blipFill>
        <p:spPr>
          <a:xfrm>
            <a:off x="3809880" y="1617840"/>
            <a:ext cx="4676760" cy="42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456840" y="16765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ass Tracking allows you t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parate your income and expenses by department, location, profit center, or any other meaningful breakdow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f your busin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separate profit and loss reports for each class of the busin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07" name="Picture 5" descr="C:\Users\DPEMBR~1\AppData\Local\Temp\SNAGHTMLb50b1a.PNG"/>
          <p:cNvPicPr/>
          <p:nvPr/>
        </p:nvPicPr>
        <p:blipFill>
          <a:blip r:embed="rId2"/>
          <a:stretch/>
        </p:blipFill>
        <p:spPr>
          <a:xfrm>
            <a:off x="4114800" y="2362320"/>
            <a:ext cx="4981680" cy="3047760"/>
          </a:xfrm>
          <a:prstGeom prst="rect">
            <a:avLst/>
          </a:prstGeom>
          <a:ln w="0">
            <a:noFill/>
          </a:ln>
        </p:spPr>
      </p:pic>
      <p:sp>
        <p:nvSpPr>
          <p:cNvPr id="1508" name="Oval 7"/>
          <p:cNvSpPr/>
          <p:nvPr/>
        </p:nvSpPr>
        <p:spPr>
          <a:xfrm>
            <a:off x="6605640" y="4191120"/>
            <a:ext cx="10666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Picture 5" descr=""/>
          <p:cNvPicPr/>
          <p:nvPr/>
        </p:nvPicPr>
        <p:blipFill>
          <a:blip r:embed="rId1"/>
          <a:stretch/>
        </p:blipFill>
        <p:spPr>
          <a:xfrm>
            <a:off x="1030320" y="3962520"/>
            <a:ext cx="7083360" cy="213336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10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 txBox="1"/>
          <p:nvPr/>
        </p:nvSpPr>
        <p:spPr>
          <a:xfrm>
            <a:off x="457200" y="1676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ob Costing tracks expenses for each customer or job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the Customer:Job column to link each expense account or Item with the customer or job to which it appl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fit &amp; Loss by Job report shows income and expenses separately for each jo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Oval 7"/>
          <p:cNvSpPr/>
          <p:nvPr/>
        </p:nvSpPr>
        <p:spPr>
          <a:xfrm>
            <a:off x="5029200" y="4343400"/>
            <a:ext cx="16002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 vendors with check, credit card, electronic funds transfer, or cash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three common situations ar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nually write a check and record the transaction in an account regis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the Write Checks window to write and print check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the Enter Bill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ndow to record Accounts Payable and then use the Pay Bill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ndow to pay the bill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5:03:11Z</dcterms:modified>
  <cp:revision>200</cp:revision>
  <dc:subject/>
  <dc:title>Chapter 3 Managing Expenses</dc:title>
</cp:coreProperties>
</file>